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ct" ContentType="image/x-pict"/>
  <Override PartName="/ppt/media/image10.pct" ContentType="image/x-pict"/>
  <Override PartName="/ppt/media/image9.jpeg" ContentType="image/jpeg"/>
  <Override PartName="/ppt/media/image3.pct" ContentType="image/x-pict"/>
  <Override PartName="/ppt/media/image17.png" ContentType="image/png"/>
  <Override PartName="/ppt/media/image16.png" ContentType="image/png"/>
  <Override PartName="/ppt/media/image8.pct" ContentType="image/x-pict"/>
  <Override PartName="/ppt/media/image13.pct" ContentType="image/x-pict"/>
  <Override PartName="/ppt/media/image15.png" ContentType="image/png"/>
  <Override PartName="/ppt/media/image14.png" ContentType="image/png"/>
  <Override PartName="/ppt/media/image6.pct" ContentType="image/x-pict"/>
  <Override PartName="/ppt/media/image11.pct" ContentType="image/x-pict"/>
  <Override PartName="/ppt/media/image2.pct" ContentType="image/x-pict"/>
  <Override PartName="/ppt/media/image5.png" ContentType="image/png"/>
  <Override PartName="/ppt/media/image4.pct" ContentType="image/x-pict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B6C-0000-4956-AFFD-61FEE1CE9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A57-5FF6-4BEC-8844-67BA05F2B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7F6-A2B0-48EF-9340-1028AEEB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486B-DD46-4856-84C8-F56B5830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7A8E-BDC5-43F9-9ECF-04A8D303F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44D8-D9FA-4944-ACE8-FD30BDEF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National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e program currently under development at NSF is the development of a digital library to support Science, Mathematics, Engineering, and Technology Edu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70B-9690-4F63-A176-F344C652E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B0B-194E-4F79-9FDE-912DD358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875400"/>
            <a:ext cx="7924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DD2-744A-4772-AF87-B194A6FF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FBB-09D0-4644-BA06-B36FC3DE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447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87540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182-55A8-4EC6-980D-D448B761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C96-75F0-4699-A58B-5B0356EE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933-37D5-4427-B71A-D3CE3E4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42F-C0BA-49A7-9C72-6F5C4420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A5D-AB2D-4655-BF3A-5F48168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7924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025-809D-4703-8C14-FEB5F9A9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93D-3F3A-4764-AC80-1A9E250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87540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0F1-87AF-40AC-B976-45F15A8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447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875400"/>
            <a:ext cx="7924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6AF-6DE4-4BDE-A4C8-A8562EE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E, Jun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B6C7-7965-4E68-89D5-C013B6718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ct"/><Relationship Id="rId5" Type="http://schemas.openxmlformats.org/officeDocument/2006/relationships/image" Target="../media/image6.pct"/><Relationship Id="rId6" Type="http://schemas.openxmlformats.org/officeDocument/2006/relationships/image" Target="../media/image9.jpeg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6.pct"/><Relationship Id="rId5" Type="http://schemas.openxmlformats.org/officeDocument/2006/relationships/image" Target="../media/image13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wards 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SMETE Digital Libra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www.smete.or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Upon NEE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don Muramatsu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S Project Directo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 Berkele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Quality Review of Courseware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n the NEEDS Databas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stablish credibility of NEEDS as a source of </a:t>
            </a:r>
            <a:r>
              <a:rPr b="1" lang="en-US" sz="2600" spc="-1" strike="noStrike" u="sng">
                <a:solidFill>
                  <a:srgbClr val="006666"/>
                </a:solidFill>
                <a:uFillTx/>
                <a:latin typeface="Arial"/>
              </a:rPr>
              <a:t>Quality</a:t>
            </a: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 educational material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nhance recognition of scholarly and creative effort of courseware developer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er/Expert Review of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emier Award for Excellence in Engineering Education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The Premier Award for Excellence in Engineering Education Coursewar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 national competition to identify and reward the authors of high-quality, non-commercial courseware designed to enhance engineering education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emier Aw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bout the entire experience of using the courseware by learners, not just the courseware it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 dissemination system to distribute the Premier Courseware (via CD’s and presentation at engineering education conferences)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242120" y="5334120"/>
          <a:ext cx="121608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2120" y="5334120"/>
                    <a:ext cx="1216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5410080"/>
            <a:ext cx="9493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914400" y="5362560"/>
            <a:ext cx="1828800" cy="149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048120" y="5791320"/>
            <a:ext cx="25146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29718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Virtual Disk Drive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esign Studio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rill Dissection and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icycle Dissec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ars Navigator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6019920"/>
            <a:ext cx="7467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ore info or to receive copies go to http://www.needs.org/engineering/premie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9080" y="3886200"/>
            <a:ext cx="3119400" cy="175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mier Courseware of 1997-1999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4479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ella Steam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DSol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ructural Engineering Visual Encyclopedia - U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5732640"/>
            <a:ext cx="342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700 CD-ROMs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29120" y="3886200"/>
            <a:ext cx="311940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562720" y="3886200"/>
            <a:ext cx="30477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38680" y="14479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ngineering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racking D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ward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National Science, Mathematics, Engineering and Technology Education (SMETE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eeds Assessment with Members of the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ath, Science and Engineering Communit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urpose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understand the math, science and engineering communities of educators and examine their needs in order to design services and structures to support users from multiple communities.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earch Questions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services, features &amp; programs are integral to success?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do users expect with regards to quality of the holdings?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o makes up the SMETE digital library community?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560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Association of Physics Teachers, American Mathematical Society, American Association for the Advancement of Science, members of the NSF Chemistry Consortia and the NSF Engineering Education Coal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ranslating Findings into Services &amp; Featu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Qualit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o rapidly identify the quality of holding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to comment about a learning object or regarding something of interest to the community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ers should include experts in pedagogy and content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ranslating Findings into Services &amp; Featu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mmunit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tructures for developing and maintaining communication link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community should be on par with building content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on discipline based communities to establish connection to a broader community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content and community interaction ensures user participation as authors, reviewers, adapters/adopters, and consumer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6666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11440" y="2438280"/>
            <a:ext cx="18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ginia T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3733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ototype Goals (1998-2001)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15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evelop a Prototype National SMETE Digital Librar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operability of federated searches/shared services with partner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requirements analysis to include K–12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riteria and standards to assess the impact of learning objects across disciplin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community feedback systems, evaluate servic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7000" y="1506600"/>
            <a:ext cx="17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h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6019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type: www.smete.or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78720" y="182880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0240" y="228600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8240" y="20397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C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38400" y="1219320"/>
            <a:ext cx="15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 Wi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uilding a National SMETE Digital Library at www.smete.or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arching for learning resourc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ataloging (adding) learning resourc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, IEEE and I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valuating the quality of learning resourc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” 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” 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rming a community of users in SMET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KAL workshops and semin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on ad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ystems Develop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xpanding www.smete.org/NEEDS platfor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ing to participate in the development of IEEE/IMS Learning Object Metadata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ing emerging IEEE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ing user com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ing discuss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ing custom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pro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xpanding Collection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ing into Chemistr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s, and Mathe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7600" y="4168800"/>
            <a:ext cx="2894760" cy="22885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otal Collection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at is an NSDL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EEDS—The National Engineering Education Delivery Syste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owards a National SMETE Digital Librar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rototype: www.smete.or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0680" y="5791320"/>
            <a:ext cx="72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Copies of this presentation will be available 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http://www.needs.org/engineering/info/presentations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Partn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orking with Eisenhower National Clearinghouse and Math Foru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common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hange records for common sear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together as part of the American Mathematics Metadata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1675080" cy="168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181480" y="5467320"/>
            <a:ext cx="2286000" cy="571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2286000" cy="1333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47080" y="60768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en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3600" y="60958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mathforu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Partn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orking with University of California Office of the President - (10 campus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courseware under development system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TLT@UC Website to showcase teaching and learning with technology at the University of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68878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llenges Toward the Future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tinuing to understand and support changing user nee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Improving ability to encapsulate the instructional intent and use of material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standards and cataloging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upporting communities of use and practice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dag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llenges Toward the Future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tinuing to understand and support changing user nee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Improving ability to encapsulate the instructional intent and use of material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standards and cataloging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upporting communities of use and practice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dag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Which allows for a user to find what they’re really looking for as well as personalization of content.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76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6666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11440" y="2438280"/>
            <a:ext cx="18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ginia Te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4038480"/>
            <a:ext cx="8534160" cy="18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SDL Goals (2000- )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evelop the National SMETE Digital Librar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seamless access to services an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dynamic learning community that promotes and supports SMET education in the 21st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pand Partnership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pand Services and Communit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33600" y="1095480"/>
            <a:ext cx="15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7000" y="1506600"/>
            <a:ext cx="17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h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78720" y="182880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75960" y="264960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upr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0040" y="267804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7640" y="205740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tah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2390760"/>
            <a:ext cx="105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L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4160" y="21337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K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760" y="20397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981080"/>
            <a:ext cx="91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A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9440" y="2819520"/>
            <a:ext cx="7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57160" y="914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0" y="4572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C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480" y="2590920"/>
            <a:ext cx="88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27672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19400" y="1219320"/>
            <a:ext cx="15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 Wi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smete.or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60240" y="228600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8240" y="203976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C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don Muramatsu, Project Director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a@needs.or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15 Etcheverry Hal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Californ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keley, CA 94720-1750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510) 643-1817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2480" y="6019920"/>
            <a:ext cx="72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pies of this presentation will be available 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www.needs.org/engineering/info/presentations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National Science, Mathematics, Engineering and Technology Education (SMETE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al Library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on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189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network of learning environments and resources for Science, Mathematics, Engineering and Technology education, will ultimately meet the needs of students and teachers at all levels—K-12, undergraduate, graduate, and lifelong learning—in both individual and collaborative settings.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0520" y="4495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owards A National SMETE Digital Library..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1727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pril 1996 - NSF Committee Meeting (LIBUS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a National Library for Undergraduate Science Education Resources in Science, Mathematics, Engineering and Technolog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ugust 1997 National Research Counci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National Library for SME&amp;T Educa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July 1998 National Science Found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ETE-Lib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January 1999 National Science Found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Libraries and Educa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NSF Establish and Fund a National Science, Mathematics, Engineering and Technology Education Digital Libr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502920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ding 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itiative – Phas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NSDL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EDS—The National Engineering Education Delivery System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ww.needs.org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40" y="1635120"/>
            <a:ext cx="2479680" cy="349236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276120" indent="-276120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assroo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structional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mall 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Resi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45160" y="1612800"/>
            <a:ext cx="2516400" cy="351468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276120" indent="-276120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urseware Stud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structional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aculty Offices &amp; Resi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4d4d4d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84440" y="2666880"/>
            <a:ext cx="222408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 flipH="1" flipV="1">
            <a:off x="2514600" y="3452400"/>
            <a:ext cx="1278000" cy="5986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34120" y="3452400"/>
            <a:ext cx="1218960" cy="5986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0360" y="2133720"/>
            <a:ext cx="131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654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is the foundation for the National SMETE Digital Library at www.smete.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320" y="0"/>
          <a:ext cx="50832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0"/>
                    <a:ext cx="50832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332680" y="30492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need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ED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Digital Library of Multimedia Engineering Courseware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bliographic records with downloadable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edia elements - downloadable movies, images, and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Multilevel Courseware Evaluation System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Review of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emier Award for Excellence in Engineering Education Course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xpanding Services and Feature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ow does NEEDS help users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“re-use” learning material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Provides mechanisms to help user locate materials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standardized descriptions (metadata) to describe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Provides mechanisms to help users evaluate the “quality  of materials”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Developed upon an extendable platform to: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698400" indent="-268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multiple u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 new services and fea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1920" y="344520"/>
            <a:ext cx="205740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23:16:11Z</dcterms:created>
  <dc:creator>Robert</dc:creator>
  <dc:description/>
  <dc:language>en-US</dc:language>
  <cp:lastModifiedBy>Brandon</cp:lastModifiedBy>
  <cp:lastPrinted>2000-06-07T16:40:49Z</cp:lastPrinted>
  <dcterms:modified xsi:type="dcterms:W3CDTF">2000-07-05T22:07:02Z</dcterms:modified>
  <cp:revision>176</cp:revision>
  <dc:subject/>
  <dc:title>No Slide Title</dc:title>
</cp:coreProperties>
</file>